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2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1FA43-3087-476C-B453-4B16E5DFC2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formatiemodel RS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 jun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Workshop standaardisatie in stel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8AEF7-2A02-4203-854C-3BD5D0140E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C042-B587-4D58-A418-70219E5BC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DB9D-89AA-43EC-B13C-A67B4BDAB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4610-E628-4F6D-9982-F896B8B3F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040" y="15001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040" y="3863520"/>
            <a:ext cx="2723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3AC1-909C-4441-A139-730051E48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CA1D-62BC-4796-A09F-6B0AED2F57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76BD-03BD-4898-82F2-01DF56E41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ED65-FFE7-497C-A844-834B1C492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1E3C-5BFB-41A2-A762-09F496DD3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6D0A-FA40-4C5E-B867-23C455B45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ECA2-196C-4934-9380-43EDE5EF3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040" y="38635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EC35-7C05-4040-911A-E7DD0B83A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040" y="1500120"/>
            <a:ext cx="4127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3520"/>
            <a:ext cx="8458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29DE-BBC2-4EA1-A69E-8D6177871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1867AC-A7E6-47E1-99CC-D65C2C932CE3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DB31BF7C-ADEB-46F7-9DC7-58D311489DA2}" type="slidenum">
              <a:rPr b="0" lang="nl-N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80964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4360" y="142884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Doe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Samen met andere expert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Inhoudelijk (door)ontwikkelen RSGB /RGBZ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 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onderdelen en bijbehorende documentat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Voorbereiden van de releaseplan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Verantwoordelijkhed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Beoordelen ingediende wijzigingsaanvragen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 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  <a:ea typeface="Arial Unicode MS"/>
              </a:rPr>
              <a:t>uitwerken ervan in RFC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1714680" y="28584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ed0c8b"/>
                </a:solidFill>
                <a:latin typeface="Verdana"/>
              </a:rPr>
              <a:t>Doel &amp; Verantwoord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el 1"/>
          <p:cNvSpPr/>
          <p:nvPr/>
        </p:nvSpPr>
        <p:spPr>
          <a:xfrm>
            <a:off x="1714680" y="28584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ed0c8b"/>
                </a:solidFill>
                <a:latin typeface="Verdana"/>
              </a:rPr>
              <a:t>Onderwer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84360" y="142884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inrichten beheer RSGB / RGB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goedkeuren RSGB / RGBZ U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vervolgacties n.a.v. conversi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harmonisatie STUF – N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Impact nieuwe versies basisregistra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(NHR, WOZ, MGB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doorontwikkeling RGBZ+ (klantcontacte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  </a:t>
            </a:r>
            <a:r>
              <a:rPr b="0" lang="nl-NL" sz="2300" spc="-1" strike="noStrike">
                <a:solidFill>
                  <a:srgbClr val="ed0c8b"/>
                </a:solidFill>
                <a:latin typeface="Verdana"/>
              </a:rPr>
              <a:t>behandelen RFC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62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8:56:31Z</dcterms:created>
  <dc:creator>Ellen Debats</dc:creator>
  <dc:description/>
  <dc:language>en-US</dc:language>
  <cp:lastModifiedBy>Debat_E</cp:lastModifiedBy>
  <dcterms:modified xsi:type="dcterms:W3CDTF">2010-09-09T07:52:17Z</dcterms:modified>
  <cp:revision>76</cp:revision>
  <dc:subject/>
  <dc:title>startbijeenkomst expertgroep informatiemodellen</dc:title>
</cp:coreProperties>
</file>